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791-9AA9-45A0-80E9-9D1A2692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3936-6E2D-4E4C-902B-85E984C4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7E13-6D34-46CC-A1C1-E744CF8F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488-5385-44F0-BADE-9387FE16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B41-8336-438A-ADA2-EAE48335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19E-45B3-4EE5-A00A-59874125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0B89-C613-480D-81AF-B42D5289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891-B57E-4305-A5D1-15FA8827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6CD1-C9CB-489B-8A38-808B77FE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A02-6CE4-4803-BD6F-026BC382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EA5-F178-4196-9F3A-B18E778F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127-438D-420F-B9A6-D72503FC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360"/>
                <a:ext cx="3352680" cy="110304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1B1B-2D64-4A16-B570-DA6B7760B0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</a:rPr>
              <a:t>Латерофарингеални прос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Стилоидна пречага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1) processus styloideus ossis temporalis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2) m. stylohyoideus, m. styloglossus, m. stylopharyngeus, 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    lig. stylohyoideum, lig. stylomandibularae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3) stilofarinfealna fascija (fascia stylopharynge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Латерофарингеални простор:</a:t>
            </a:r>
            <a:br>
              <a:rPr sz="1800"/>
            </a:b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 1) Престилоидни простор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(spatium prestyloideum)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2)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Ретростилоидни простор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(spatium retrostyloideu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рестилоидни простор:</a:t>
            </a:r>
            <a:br>
              <a:rPr sz="2000"/>
            </a:b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 - спољашњи зид: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- m. pterygoideus medialis (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масетерични предео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унутрашњи зид: - бочни зид носног и усног дела ждрела</a:t>
            </a:r>
            <a:br>
              <a:rPr sz="1800"/>
            </a:b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 - задњи зид: - унутрашњи део стилоидне преча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Садржај:</a:t>
            </a:r>
            <a:br>
              <a:rPr sz="1800"/>
            </a:b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 - доњи део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m. styloglossus-a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- a. palatina ascendens, a. pharyngea ascendens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вене пратиље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- n. pterygoideus medialis, n. tensoris veli palatini, n. tensoris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  tympani, n. glossopharyng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rcRect l="7697" t="0" r="37469" b="37210"/>
          <a:stretch/>
        </p:blipFill>
        <p:spPr>
          <a:xfrm>
            <a:off x="684360" y="0"/>
            <a:ext cx="8028000" cy="6892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rcRect l="9598" t="0" r="37986" b="39327"/>
          <a:stretch/>
        </p:blipFill>
        <p:spPr>
          <a:xfrm>
            <a:off x="755640" y="0"/>
            <a:ext cx="7669080" cy="6659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26952" t="20168" r="9765" b="21972"/>
          <a:stretch/>
        </p:blipFill>
        <p:spPr>
          <a:xfrm>
            <a:off x="500040" y="642960"/>
            <a:ext cx="7715160" cy="5643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26368" t="13915" r="9180" b="13575"/>
          <a:stretch/>
        </p:blipFill>
        <p:spPr>
          <a:xfrm>
            <a:off x="857160" y="-212760"/>
            <a:ext cx="7858080" cy="70707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</a:rPr>
              <a:t>Латерофарингеални прос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етростилоидни просто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 предњи зид: стилоидна пречага – одваја га својим </a:t>
            </a:r>
            <a:r>
              <a:rPr b="0" i="1" lang="sr-CS" sz="2000" spc="-1" strike="noStrike">
                <a:solidFill>
                  <a:srgbClr val="ffffff"/>
                </a:solidFill>
                <a:latin typeface="Arial"/>
              </a:rPr>
              <a:t>унутрашњим делом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од  престилоидног простора, а својим </a:t>
            </a:r>
            <a:r>
              <a:rPr b="0" i="1" lang="sr-CS" sz="2000" spc="-1" strike="noStrike">
                <a:solidFill>
                  <a:srgbClr val="ffffff"/>
                </a:solidFill>
                <a:latin typeface="Arial"/>
              </a:rPr>
              <a:t>спољашњим делом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од паротидне ложе која је споља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- задњи зи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 lamina prevertebr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унутрашњи зи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 septum longitudin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адржај: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a. carotis interna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v. jugularis interna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IX, X, XI, XII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ранијални нерв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горњи део стабла вратног симпатику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rcRect l="7671" t="0" r="38170" b="39179"/>
          <a:stretch/>
        </p:blipFill>
        <p:spPr>
          <a:xfrm>
            <a:off x="611280" y="185760"/>
            <a:ext cx="7921440" cy="6672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7671" t="0" r="37469" b="37210"/>
          <a:stretch/>
        </p:blipFill>
        <p:spPr>
          <a:xfrm>
            <a:off x="395280" y="0"/>
            <a:ext cx="8026560" cy="6888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Ретрофарингеални прос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Налази се иза ждрела, а  испред кичменог стуба прекривеног преткичменим мишићима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Зидови: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- предњи: задњи зид ждрела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- задњи: вратни кичмени пршљенови прекривени преткичменим мишићима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- бочни: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eptum longitudinale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адржај: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- растресито ткиво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2-3 nodi lymphatici retropaharynge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10</cp:lastModifiedBy>
  <dcterms:modified xsi:type="dcterms:W3CDTF">2021-01-28T21:10:45Z</dcterms:modified>
  <cp:revision>1</cp:revision>
  <dc:subject/>
  <dc:title>Латерофарингеални простор</dc:title>
</cp:coreProperties>
</file>